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FCC-AEDE-4B10-BC1D-91EF989C2E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de opleiding komt het hele spectrum dat zonet is uitgelegd aan bod in de eerste drie leerjaren: de propedeuse en de basisopleiding. (Of P- en K-fas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de K-fase kan de student daar verder nog een eigen accent aangeg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software engineering (‘information engineering’; komen tot functioneel ont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echnische informatica (denk aan b.v. embedded systemen; ingebouwde softw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ti (het aan de man brengen van  …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elematica (student parttime werkt in bedrij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j Mens&amp;Informatica zijn er binnen het leerplan verder geen specifieke richtingen mogelij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elke kwartaalperiode maakt de student een studieplan voor de volgende periode, en een (eventueel aangepast)  lange termijn studie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 ontstaat individueel studiep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t zijn voorbeelden van mogelijke pa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ze en de volgende sheets zijn meer ter opvu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opleiding Bedrijfskundige Informatica komt in deze voorlichtingssheets verder niet aan de o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omgaan met de computer en het omgaan met software is maar een beperkt deel  van de bezigheden van een informat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complete fasering, die in de volgende slides stap voor stap wordt uitgeleg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afgestudeerde Hogere Informatica of Mens&amp;Informatica is in principe deskundig op alle gebieden die in deze fasering sta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zogenaamde informatie-analyse / veranderingsanalyse. Wat wil de klant nou eigenlij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het leerplan is dit thema onder andere in de volgende modulen (vakken) aan de or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eanalyse, systeemontwikkeling, communic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(mogelijke) oplossing voor de k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 meest moeilijke maar ook meest creatieve aspect dat door de informaticus wordt uitgewerkt. Vergelijk het met het werk van een architectect in de bou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ok in de informatica wordt gesproken van de architectuur van een sy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angrijke modulen in dit ka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steemontwikkeling, software engineering, computersyst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 realiseren van het sy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ervoor zijn in het leerplan de volgende modulen (vakken) representatie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meren (in Delphi en/of JAVA en/of C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bases, ontwikkelgereedschappen, communic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inbedding in de organisatie waar het systeem gebruikt moet gaan wo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resentatieve modul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stuurlijke informatiekunde, netwerken, gebruikersondersteu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nazorg. ‘Maintenanc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4A8-D8A3-4674-81A4-4CF07346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205-99D2-42D0-A238-7C0E846F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2CC-73C3-48CD-8316-972526A9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EF1-C59E-41EA-8CDE-C002FE2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A74-CB95-4108-AC25-2C691FC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2D0-6B22-4EA3-8530-E788EC11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02F-5CC3-4FAD-92C8-E7C812F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EB9-6EE3-4C5B-A0B6-C9E40F5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926-CB96-4ABE-A5AB-23D5C65D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CD-325D-4F43-AD3C-80A153E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0E6-9E8F-46F2-9C9B-1C4987F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AB9-6492-476E-B456-E8BEAFE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5120" y="624852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C85-1A8A-40BE-9A83-66DF756E14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De onderwerpen die achtereenvolgens besproken wor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5400" y="5791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17524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ntys Hogeschool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vakgebied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inhoud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organisati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e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1231920"/>
            <a:ext cx="6006960" cy="425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19112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3240" y="1231920"/>
            <a:ext cx="1193760" cy="42544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Globale schets van de inhoud van het onderwijs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Hogere Inform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4495680"/>
            <a:ext cx="17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ped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540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5400" y="3352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400" y="251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400" y="1482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209680"/>
            <a:ext cx="4629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sisopleiding met keuzerich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ware engineer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hnische informat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mercieel technische rich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(duaal) tel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033240" y="2558160"/>
            <a:ext cx="317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ttitudevorming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asi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720" y="32004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448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1295280"/>
            <a:ext cx="4038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project, afstuderen en keuze va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1231920"/>
            <a:ext cx="6006960" cy="425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28600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3240" y="1231920"/>
            <a:ext cx="1193760" cy="42544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Globale schets van de inhoud van het onderwijs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Mens en Inform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495680"/>
            <a:ext cx="17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ped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540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400" y="3352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5400" y="251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00" y="1482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666880"/>
            <a:ext cx="5105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sisoplei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geen keuzericht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033240" y="2558160"/>
            <a:ext cx="317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ttitudevorming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asi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720" y="32004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1295280"/>
            <a:ext cx="4038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project, afstuderen en keuze va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Specifieke aspecten van de opleiding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Mens en Informat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nl-NL" sz="2400" spc="-1" strike="noStrike">
                <a:solidFill>
                  <a:srgbClr val="cc66ff"/>
                </a:solidFill>
                <a:latin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ntwikkeling van informatiesystemen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r het betrekken van toekomstige gebruikers dan het programmeren zelf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eiden en ondersteunen gebruikers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dactiek, maken van handleidingen, multimedia producties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  specialist op het gebied van gebruiker-computerinteractie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hnologie, psychologie en ergonom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820800" y="388800"/>
          <a:ext cx="7157880" cy="5378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388800"/>
                    <a:ext cx="715788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2120" y="47520"/>
          <a:ext cx="7845480" cy="5878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520"/>
                    <a:ext cx="784548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22860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cc66ff"/>
                </a:solidFill>
                <a:latin typeface="Times New Roman"/>
              </a:rPr>
              <a:t>Voordelen van een modulair syste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91440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tudent is met een beperkt aantal vakken tegelijk bez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s voldoende blijft voldoend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voldoenden kunnen snel worden overged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gen studieplanning en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tijdverlies als een moduul eens niet goed ga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hter 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eerste jaar intensievere begeleiding door men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ter meer eigen verantwoordelijkheid voor het studieverloop dan in een traditioneel onderwijssy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610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cc66ff"/>
                </a:solidFill>
                <a:latin typeface="Times New Roman"/>
              </a:rPr>
              <a:t>Toelating / geschiktheid profielen</a:t>
            </a: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cc66ff"/>
                </a:solidFill>
                <a:latin typeface="Times New Roman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&amp;M             N&amp;G        N&amp;T      C&amp;M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Wsk a -&gt;b      geschikt     geschikt    Wsk a -&gt;b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geschikt         geschikt     geschikt    Wsk 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04640" indent="-4046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kele beroepen die je na de opleiding z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uitoefenen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etwerkbeheerder (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werper user-interfaces 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ontwerper (HI en 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formatieanalist (HI en 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Beroepen (1)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2230560" cy="4081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072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Beroepe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ken van internettoepassing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werper electronische handleiding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sultant bij veranderingsprocess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jectleider automatiseringsprojecten (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</a:rPr>
              <a:t>adviseur interne controle / beveiliging  (H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</a:rPr>
              <a:t>sales manager (C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13440" y="2133720"/>
            <a:ext cx="2230560" cy="40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516040" y="2484360"/>
          <a:ext cx="3643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040" y="2484360"/>
                    <a:ext cx="364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09480" y="533520"/>
            <a:ext cx="7772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Succes bij het maken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van jouw keuze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36720" y="457200"/>
            <a:ext cx="3187800" cy="958680"/>
          </a:xfrm>
          <a:prstGeom prst="rect">
            <a:avLst/>
          </a:prstGeom>
          <a:solidFill>
            <a:srgbClr val="33cc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65320" y="457200"/>
            <a:ext cx="27846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ntys Hoge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704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rijfskundi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93360" y="1447920"/>
            <a:ext cx="251460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8320" y="1447920"/>
            <a:ext cx="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08320" y="1447920"/>
            <a:ext cx="243864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g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116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n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080" y="5791320"/>
            <a:ext cx="1325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133800" y="3887640"/>
          <a:ext cx="2230200" cy="17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3800" y="3887640"/>
                    <a:ext cx="223020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7621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Wat doet een </a:t>
            </a:r>
            <a:br>
              <a:rPr sz="4000"/>
            </a:b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nformatica deskundi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5740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leggen met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chten te weten te komen wat ze w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en van een oplossing voor hun probl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hrijven van een computerprogramma voor het oplossen van het probl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leg geven over het gebruik van het 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lenen van na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5746680"/>
            <a:ext cx="1325520" cy="8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316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9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17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82360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Het vakgebied Informatica: </a:t>
            </a:r>
            <a:br>
              <a:rPr sz="4000"/>
            </a:b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nformatiesyste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unctionele  en technische specific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wikkelen en t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mplemen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 en beh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809880" cy="158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928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4316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9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7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760" y="628560"/>
            <a:ext cx="678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Analyse 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2952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stleggen wat er moet k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398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is de werkwijze 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398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wordt de werkwijze str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moet er verande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zijn de gevolgen v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bedrij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77040" y="2593800"/>
          <a:ext cx="363672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7040" y="2593800"/>
                    <a:ext cx="363672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457200"/>
            <a:ext cx="6553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Functionele  en technische specifica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t moet het nieuwe systeem allemaal doen? Welke programma’s en welke gegev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gaat het nieuwe systeem dat do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lke hardware is er nod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540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66688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gramm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tabase organis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cum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27640" y="31240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9320" y="228600"/>
            <a:ext cx="6788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Ontwikkelen en te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8560" y="2895480"/>
            <a:ext cx="2658960" cy="373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9320" y="228600"/>
            <a:ext cx="6102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mplemente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656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1295280"/>
            <a:ext cx="5715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voor opleidingen van de gebrui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dat iedereen de juiste programma’s en gegevens krij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dat alle gebruikers de juiste apparatuur heb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voor de beveili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alisatie van de veranderingen in de organis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9320" y="228600"/>
            <a:ext cx="617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Onderhoud en beh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510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lpen bij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blemen doorgeven aan ontwikkela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ventariseer aanvullende wen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werken nieuwe gebrui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houden docum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809880" cy="355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124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13:11Z</dcterms:created>
  <dc:creator>J. Boonen</dc:creator>
  <dc:description/>
  <dc:language>en-US</dc:language>
  <cp:lastModifiedBy>Frans Peeters</cp:lastModifiedBy>
  <cp:lastPrinted>2000-02-22T20:50:18Z</cp:lastPrinted>
  <dcterms:modified xsi:type="dcterms:W3CDTF">2000-05-11T08:49:47Z</dcterms:modified>
  <cp:revision>17</cp:revision>
  <dc:subject/>
  <dc:title>No Slide Title</dc:title>
</cp:coreProperties>
</file>