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B7B-4D3D-439C-AE5B-B6249959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738-7B58-467B-98B0-A5D7BC13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A01-A426-4EF5-B48D-D18A85DA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9160-E230-4D34-9D10-84B7EA1C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FAA9-5B1D-46BA-B423-B44409ED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8360-227E-4D2D-8916-C1DC7414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3DE0-153C-4182-B707-860890D0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E900-A1CC-4F93-957B-53609072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733E-41FF-4B22-97F3-65576465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29DD-3BFA-4A94-88F4-5F45C2F3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E0FD-89DF-477D-953C-D8261FB4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807-ABDF-4108-876C-7B538B3E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8727-7C83-4752-B25C-40B30D53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8759-8EAE-4959-AF57-D32EB462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4705-2033-4FFC-BCDF-12BCCEAF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4BB9-DAE7-4D8B-80C0-DCE7D826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ED2B-D859-4A3E-AD9A-CE9EF678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470-8F50-4468-9F3A-C43E444F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DDD-264E-4F72-A10E-BF1A11BE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607-7EB0-4B4F-BAC7-88B2C615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71E-1CB6-4EFD-B106-CD7CB2C5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520-BF89-4670-BF67-5B7F5C56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3E1-325B-4477-9848-43C15CB8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28F-F1D8-42DA-9015-1072A59C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E27D-6B01-44C4-83DB-CB98A7E5FC1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F9C4-DE80-4351-A58B-ACEC8DC15F4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3880" y="2819520"/>
            <a:ext cx="6248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RZIE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CA DEEL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ofdstuk 3: Communica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eel tekstuele verbetering zijn aangebrac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egrip Syntax is beter uitgewerkt; link met 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edeelte over robotica wordt praktischer gemaakt door ‘motion planning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Hoofdstuk 4: </a:t>
            </a:r>
            <a:br>
              <a:rPr sz="3200"/>
            </a:b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Computersystemen, netwerken en randapparatuur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t was Hoofdstuk 5 (Hardw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houdelijk is dit hoofdstuk niet wezenlijk verande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 zijn enkele kleine praktische opdrachten toegevoegd: onder andere peer-netwer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ofdstuk 5: Besturingssystem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t was Hoofdstuk 6 (besturingssystem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heel herzien, nu is het hoofdstuk kor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at uit van eisen aan besturingssyste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vat een practicum MS-DOS en een vergelijking met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el technische details, die eerst aan het hoofdstuk stonden, zijn nu weggela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Hoofdstuk 6: Algoritmen en programma’s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Hoofdstuk 7: Interactieve programma’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it in een integratie van het oude H4 met Java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aardoor is het een totaal nieuw hoofdstuk gewor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SD’s zijn gebl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ofdstuk 7 bestaat voor een groot deel uit verdiepings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aardoor zijn praktische opdrachten op elk niveau mogelij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Hoofdstuk 8: Algoritmen en computer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it is een hoofdstuk, waarin we dieper op de achtergronden van het programmeren in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is vergelijkbaar met het oude hoofdstuk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hoofdstuk biedt gedeeltelijk een alternatief voor Java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aktische Opdracht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6ffff"/>
                </a:solidFill>
                <a:latin typeface="Times New Roman"/>
              </a:rPr>
              <a:t>DRIE PO’S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66ff33"/>
                </a:solidFill>
                <a:latin typeface="Times New Roman"/>
              </a:rPr>
              <a:t>website ontwerpen (bij H 1 t/m 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xamendossier in de vorm van een web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66ff33"/>
                </a:solidFill>
                <a:latin typeface="Times New Roman"/>
              </a:rPr>
              <a:t>hardware en besturingssystemen ( bij H 4 en 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en opdracht met twee standaardinvulling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ardware advies geven; - Linux (voor gevorderde leerling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66ff33"/>
                </a:solidFill>
                <a:latin typeface="Times New Roman"/>
              </a:rPr>
              <a:t>afsluitende opdracht programmeren (bij H 6 t/m 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ok hier is de invulling open, maar wordt een standaard invulling gegeven: een opdracht in Java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eerlingen mogen ook een andere opdracht kiezen, bijv. als ze vel dieper op programmeren zijn ingega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D RO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700"/>
              </a:spcBef>
              <a:buClr>
                <a:srgbClr val="66ff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66ff33"/>
                </a:solidFill>
                <a:latin typeface="Times New Roman"/>
              </a:rPr>
              <a:t>Deze bevat zeer veel materia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ragrammatuur (Java, Irfanview, Motion Planning, Fil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tml: links en applets (bijv. kleurenmeng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ocumenten, die het leerproces ondersteunen (aanpak, jargonlij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 broncodes van voorbeeldprogramma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xcel- docum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ccess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verig materia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el van de video voor Informatica deel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Prijzen en ISBN’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6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66ff33"/>
                </a:solidFill>
                <a:latin typeface="Times New Roman"/>
              </a:rPr>
              <a:t>De herziene versie van Informatica deel 1 kos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048120"/>
            <a:ext cx="7239240" cy="21891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66ffff"/>
                </a:solidFill>
                <a:uFillTx/>
                <a:latin typeface="Times New Roman"/>
              </a:rPr>
              <a:t>Titel:</a:t>
            </a:r>
            <a:r>
              <a:rPr b="1" lang="nl-NL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66ffff"/>
                </a:solidFill>
                <a:latin typeface="Times New Roman"/>
              </a:rPr>
              <a:t>      </a:t>
            </a:r>
            <a:r>
              <a:rPr b="1" i="1" lang="nl-NL" sz="2800" spc="-1" strike="noStrike" u="sng">
                <a:solidFill>
                  <a:srgbClr val="66ffff"/>
                </a:solidFill>
                <a:uFillTx/>
                <a:latin typeface="Times New Roman"/>
              </a:rPr>
              <a:t>ISBN:</a:t>
            </a:r>
            <a:r>
              <a:rPr b="1" i="1" lang="nl-NL" sz="2800" spc="-1" strike="noStrike" u="sng">
                <a:solidFill>
                  <a:srgbClr val="66ffff"/>
                </a:solidFill>
                <a:uFillTx/>
                <a:latin typeface="Times New Roman"/>
              </a:rPr>
              <a:t>	</a:t>
            </a:r>
            <a:r>
              <a:rPr b="1" i="1" lang="nl-NL" sz="2800" spc="-1" strike="noStrike" u="sng">
                <a:solidFill>
                  <a:srgbClr val="66ffff"/>
                </a:solidFill>
                <a:uFillTx/>
                <a:latin typeface="Times New Roman"/>
              </a:rPr>
              <a:t>	</a:t>
            </a:r>
            <a:r>
              <a:rPr b="1" i="1" lang="nl-NL" sz="2800" spc="-1" strike="noStrike" u="sng">
                <a:solidFill>
                  <a:srgbClr val="66ffff"/>
                </a:solidFill>
                <a:uFillTx/>
                <a:latin typeface="Times New Roman"/>
              </a:rPr>
              <a:t>Prij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Theorieboek 1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       90 5766 950 1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fl. 47,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Werkboek 1 (incl cd rom)  90 5766 951 x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fl. 27,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Docentenhandleiding 1       90 6053 006 3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n.n.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orie- en werkbo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2e versie Informatica theorie in apart boe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ak - mn. gebruik van computers- verandert snel, maar theorie erachter is stabi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heorieboek kan dus lang m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boek dat leertaken beschrijft: opdrachten voor het leveren van de theorie, praktische opdrachten, projec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boek zal sneller veranderen om aan te passen aan de nieuwe ontwikkeling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 termijn: werkSITE?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oriebo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idige boek: opdrachten eruit en stukken erbij voor     diepgang en differentiatiemogelijkhed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eft goed beeld van toekomstige theorieboe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 veel plaatsen ook lokale verbetering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orieboek werkt als bronnenboek: geeft materiaal bij de ‘leertaken’ in het werkboe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orieboek past in het boekenfond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rkboek 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werkboek is leidend: het bevat leertaken die samen het vak bepalen; mogelijke keuz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verschillende paden door het v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keuze-opdrach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verdieping ja/n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aken verwijzen naar bronnen in Theoriebo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evat ook de zaken die snel verander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cd rom met software en materia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verwijzingen naar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handleiding voor de gebruikt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voudige uitgave, voor eenmalig gebrui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rkboek I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ertaken met min of meer vaste indel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iëntatie op de leerta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palen van de aanp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itvoeren van de leerta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alue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rkboek II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schillende soorten leertaken in het werkboe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rwerken van de theor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aktische toepassi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jecten of grote praktische opdrachten, die uitstijgen boven de theorie in een enkel hoofdstu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euzetaken die op een onderwerpdiepgang aanbre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deling van de hoofdstukk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herziene versie van Informatica deel 1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1: Informatiesyste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2: Informatie digita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3: Communica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4: Computersystemen, netwerken en randapparatu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5: Besturingssyste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6: Algoritmen en programma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7: Interactieve programma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8: Algoritmen en compu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eranderingen per Hoofdstu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66ffff"/>
                </a:solidFill>
                <a:latin typeface="Times New Roman"/>
              </a:rPr>
              <a:t>Hoofdstuk 1: Informatiesyste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leiding is verdwe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edeelte over reisplanner veel sterker gericht op ontwerpen. Bijv. deel van de spoorkaart is geïmplementeerd als database in Access; route zoeken d.m.v. query’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terkere vooruitblik op het programmeren door uitwerking van algoritmen (bijv. demo van algoritme van Dijkstra, eerste PS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aardoor geeft het hoofdstuk een beter beeld van van er komen ga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ofdstuk 2: Informatie Digita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evat geen grote inhoudelijke wijzigi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eel praktischer door toevoeging van digitaal materiaal; excel, ppt, appl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igitaal lesmateriaal uitgebreid (video, flas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09:19:06Z</dcterms:created>
  <dc:creator>paul schuitman</dc:creator>
  <dc:description/>
  <dc:language>en-US</dc:language>
  <cp:lastModifiedBy>FPI</cp:lastModifiedBy>
  <dcterms:modified xsi:type="dcterms:W3CDTF">2001-04-12T17:04:41Z</dcterms:modified>
  <cp:revision>1</cp:revision>
  <dc:subject/>
  <dc:title>Geen diatitel</dc:title>
</cp:coreProperties>
</file>